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42B7-6CC1-463B-B321-98AC5B1F7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4396-F587-43A9-9141-6A7A74962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eatricebiologist.com/2011/01/protists-they-make-no-sens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B09C-F548-4BBB-9FFE-450180794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nfovisual.info/02/003_e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(see phylogenetic tree)…they are most closely related to the slime moulds. Visible on cladogram in textbook (Fig.6 p.6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B0B5-95FF-49A3-8C63-A992EE533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icroscopy-uk.org.uk/mag/indexmag.html?http://www.microscopy-uk.org.uk/mag/artsep01/amoeb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CC61-8718-4CB3-A5CE-41499B47E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2F2B-7728-4E6F-927B-BC90400F3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quia.com/jg/1601936lis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D374-702C-415D-AE41-68877EC1D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iaid.nih.gov/topics/Malaria/Pages/lifecycle.asp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(see phylogenetic tree): Phylum Apicomplexa…closely related to the Cili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77B0-7071-48AD-AD71-DE38B048F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66.147.244.104/~loveanh0/?p=10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EF50-C2B0-4E13-A7AA-BC817FE8F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shsapbiop2-taxa.wikispaces.com/prot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A869-4909-4354-BDA3-F29781CC8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.miami.edu/dana/160/160S09_9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5FE5-8E27-4270-BB24-80D513C82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4F8B-1F4C-4EC6-82ED-76BA4053E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rookc.pbworks.com/w/page/46197520/Parame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7C4A-0938-4764-9D28-A091F802C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101science.com/paramecium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animation of contractile vacuole: https://www.youtube.com/watch?v=9Ynm5ZOW59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20EA-7DF4-4AE4-8697-503E9F9C4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nfovisual.info/02/001_e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E8CA-36D4-44F8-8549-387C89D89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cps.edu/islandcreekes/ecology/euglena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CF4A-CEB0-459A-851D-269F73E24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119D-B86C-4A26-92C0-77DBEF59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84E1-F53F-4372-8AC9-1F573EB5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9549-51F1-4076-AE1C-0AD3E5D4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69DF-B208-49ED-A42D-03C056F4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959C-5135-491C-823A-741E25D1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C1E-A0D9-4038-B38E-37F9E3F0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545F-BC88-4033-98FA-58DFB9B9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5C6F-7FCE-48D4-BBAB-FDAE661E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322D-1B2C-4CA5-8DE5-DB6C8A30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2B38-6EC3-44B6-B7CF-E095BF46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BB4A-A930-4CC8-9EF9-DF09D77A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18A2-A41F-4226-B863-77038CCCA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Amoebid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003 Structure of an amoeba"/>
          <p:cNvPicPr/>
          <p:nvPr/>
        </p:nvPicPr>
        <p:blipFill>
          <a:blip r:embed="rId1"/>
          <a:stretch/>
        </p:blipFill>
        <p:spPr>
          <a:xfrm>
            <a:off x="1944720" y="1981080"/>
            <a:ext cx="525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amoebaproteus450"/>
          <p:cNvPicPr/>
          <p:nvPr/>
        </p:nvPicPr>
        <p:blipFill>
          <a:blip r:embed="rId1"/>
          <a:srcRect l="4819" t="0" r="4819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10920" y="5013360"/>
            <a:ext cx="7993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lso this video of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moeb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gulfing 2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amec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www.youtube.com/watch?v=pvOz4V699g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xual reproduction (binary fis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al reproduction (conjug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ellular proti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al reproduction involving formation of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on of gen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Alternation-of-generations-"/>
          <p:cNvPicPr/>
          <p:nvPr/>
        </p:nvPicPr>
        <p:blipFill>
          <a:blip r:embed="rId1"/>
          <a:stretch/>
        </p:blipFill>
        <p:spPr>
          <a:xfrm>
            <a:off x="2063880" y="609480"/>
            <a:ext cx="5016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lasmodiu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ife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lifecycleWeb"/>
          <p:cNvPicPr/>
          <p:nvPr/>
        </p:nvPicPr>
        <p:blipFill>
          <a:blip r:embed="rId1"/>
          <a:stretch/>
        </p:blipFill>
        <p:spPr>
          <a:xfrm>
            <a:off x="2176560" y="1752480"/>
            <a:ext cx="4714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Protis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mallest 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ely diverse…from small single-celled to large plant-like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oge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288"/>
          <p:cNvPicPr/>
          <p:nvPr/>
        </p:nvPicPr>
        <p:blipFill>
          <a:blip r:embed="rId1"/>
          <a:stretch/>
        </p:blipFill>
        <p:spPr>
          <a:xfrm>
            <a:off x="2408400" y="1523880"/>
            <a:ext cx="44020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id they come fr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eukaryoteorigin"/>
          <p:cNvPicPr/>
          <p:nvPr/>
        </p:nvPicPr>
        <p:blipFill>
          <a:blip r:embed="rId1"/>
          <a:stretch/>
        </p:blipFill>
        <p:spPr>
          <a:xfrm>
            <a:off x="1960560" y="1600200"/>
            <a:ext cx="5146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s of 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of aquatic food pyram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ogens (malaria,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ver fev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&amp; food additives (nori, agar, carrageenan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Parameciid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paramecium2"/>
          <p:cNvPicPr/>
          <p:nvPr/>
        </p:nvPicPr>
        <p:blipFill>
          <a:blip r:embed="rId1"/>
          <a:stretch/>
        </p:blipFill>
        <p:spPr>
          <a:xfrm>
            <a:off x="1673280" y="1981080"/>
            <a:ext cx="5797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lso contractile vacuoles in actio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://www.youtube.com/watch?v=9Ynm5ZOW59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parameciumdrop9_300"/>
          <p:cNvPicPr/>
          <p:nvPr/>
        </p:nvPicPr>
        <p:blipFill>
          <a:blip r:embed="rId1"/>
          <a:stretch/>
        </p:blipFill>
        <p:spPr>
          <a:xfrm>
            <a:off x="1649520" y="533520"/>
            <a:ext cx="5692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Euglenac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001 Structure of a euglena"/>
          <p:cNvPicPr/>
          <p:nvPr/>
        </p:nvPicPr>
        <p:blipFill>
          <a:blip r:embed="rId1"/>
          <a:stretch/>
        </p:blipFill>
        <p:spPr>
          <a:xfrm>
            <a:off x="2308320" y="1981080"/>
            <a:ext cx="452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5L"/>
          <p:cNvPicPr/>
          <p:nvPr/>
        </p:nvPicPr>
        <p:blipFill>
          <a:blip r:embed="rId1"/>
          <a:srcRect l="5557" t="0" r="5557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4941360"/>
            <a:ext cx="81360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is beautiful phase-contrast video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ugle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s://www.youtube.com/watch?v=jl0TzaWUQW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5:14:04Z</dcterms:created>
  <dc:creator>rubina khan</dc:creator>
  <dc:description/>
  <dc:language>en-US</dc:language>
  <cp:lastModifiedBy>rubina khan</cp:lastModifiedBy>
  <dcterms:modified xsi:type="dcterms:W3CDTF">2016-02-23T16:16:59Z</dcterms:modified>
  <cp:revision>38</cp:revision>
  <dc:subject/>
  <dc:title>The Protists</dc:title>
</cp:coreProperties>
</file>